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B982-2C9B-4740-A52F-DD4BC829A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AD35-36CD-4FB3-B035-314A843A5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456-615B-4CFD-A90B-0A14AAD3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DC6-C27B-4AB0-9DBE-93618809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CE9-9FA6-4BFF-9E6F-F23F9471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809-E659-4D38-88C9-E2B6171B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041-5174-4994-BE13-012B4707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0BD-A54D-47F3-B449-8119CB71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4B6-A55E-4D72-AF8E-05B59CA2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2CA-5C39-4FB7-8E86-0BF92571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AAF-1D11-4E18-95F6-163E8F5B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C37-CF46-44EB-B0BA-02123742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E07-60BA-4877-B0A4-A90589F2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ABD-57FB-45ED-8394-467DEFB8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B7E2-CE7F-4CE3-BDC3-85168B741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mela Cun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rmela Cunso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armela Cunsol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armela Cunsol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armela Cunsol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6705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1680" y="56386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umbre es Carmela. Vivo en New York. Tengo catorce anos. Tengo una hermana, Charlotte. Yo soy inteligente. Estoy feliz y sympatica. Adios Amiga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-19080" y="5102280"/>
            <a:ext cx="64764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6386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armela! Estoy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Buenos Dias! Como están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7:05Z</dcterms:modified>
  <cp:revision>103</cp:revision>
  <dc:subject/>
  <dc:title>Profile</dc:title>
</cp:coreProperties>
</file>